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43EB-46EA-4C83-AE04-A3B37001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9ED-6E5B-4DF6-AF84-7D5C9569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CFA-4C42-405F-B71E-FF57E767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38B1-4357-4C67-AB7C-587E51C6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EC4-584F-44B5-A8E5-606693D8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0F1-5733-457E-9DFA-B288AE0D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877-2A2C-4F05-BA25-7F4342B4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123-DFA9-44A4-8234-CE8F4C86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38A-F874-49DB-B6FA-79CF34A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377-BA84-47CE-B5A2-B986BA79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8F5-5E8D-4C96-B15D-9678958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334-BADA-476A-B95B-51A37ED6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56D-6F97-45BB-B325-809CE0D9D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609480"/>
            <a:ext cx="7848720" cy="5715000"/>
            <a:chOff x="838080" y="609480"/>
            <a:chExt cx="7848720" cy="5715000"/>
          </a:xfrm>
        </p:grpSpPr>
        <p:pic>
          <p:nvPicPr>
            <p:cNvPr id="42" name="aglioeolio" descr=""/>
            <p:cNvPicPr/>
            <p:nvPr/>
          </p:nvPicPr>
          <p:blipFill>
            <a:blip r:embed="rId1"/>
            <a:stretch/>
          </p:blipFill>
          <p:spPr>
            <a:xfrm>
              <a:off x="838080" y="609480"/>
              <a:ext cx="762012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9" name="mapole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2" name="pierodellafranpesc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5" name="ponziopelat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78" name="porrosedut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1" name="rapanellosanzi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4" name="resalam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87" name="tutanpanem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90" name="vancoc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45" name="aglioween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48" name="alavin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1" name="antonnocleopast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4" name="avocado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57" name="cristoforocolomb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0" name="cuordimelone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3" name="ficodellamirandola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762120" y="571680"/>
            <a:ext cx="7924680" cy="5715000"/>
            <a:chOff x="762120" y="571680"/>
            <a:chExt cx="7924680" cy="5715000"/>
          </a:xfrm>
        </p:grpSpPr>
        <p:pic>
          <p:nvPicPr>
            <p:cNvPr id="66" name="johnlemon" descr=""/>
            <p:cNvPicPr/>
            <p:nvPr/>
          </p:nvPicPr>
          <p:blipFill>
            <a:blip r:embed="rId1"/>
            <a:stretch/>
          </p:blipFill>
          <p:spPr>
            <a:xfrm>
              <a:off x="762120" y="571680"/>
              <a:ext cx="761976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781680" y="609480"/>
              <a:ext cx="190512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9:29:44Z</dcterms:created>
  <dc:creator>37301200</dc:creator>
  <dc:description/>
  <dc:language>en-US</dc:language>
  <cp:lastModifiedBy>GNITTI</cp:lastModifiedBy>
  <dcterms:modified xsi:type="dcterms:W3CDTF">2001-12-11T09:28:15Z</dcterms:modified>
  <cp:revision>2</cp:revision>
  <dc:subject/>
  <dc:title>Nessun titolo diapositiva</dc:title>
</cp:coreProperties>
</file>